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9FA-E1B4-4DA6-9DBC-188A705FAB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605-42D3-4396-8030-43C4A3251B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A78-5FE6-4F35-BA7F-1898A3BA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AA25-A350-41A8-82BA-AACDAE3DAD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46D-B600-4DC6-9DBF-6DA1508A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B2B-F7C7-4898-96E2-571189ACC5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E37-C336-4E31-8523-0FBBB65C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07A8-5E9F-42C7-B91C-BDBBC171B2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17D4-6E48-40EC-9301-EF210A51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145-0A85-423D-B382-5C04767321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9123-2409-436A-97DE-9967D87E3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A61F-3D98-4AA8-953E-E91418386D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F687-B747-4CF5-A163-20BD1DA6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99AA-0D5F-4E5A-9B8C-BF3FF8F576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B88-87D7-4148-B075-490C8BC7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C603-9F53-4B5E-B69D-B46155E284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2E0A-3DFB-45A5-974C-099859BE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65C-2175-455C-940E-C5D1B4D88A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6C9F-6C97-4DE6-B8EA-729E346B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ADE-F885-4C12-AFEC-C84E0DC69F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72AF-EB46-4373-8351-58D47429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1AA5-298D-4770-B29C-E9E42EAD66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A7A-33DF-4E72-AB3A-9502C079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3F4-B1F8-4A63-864F-1532AE9DB8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9F09-9235-4F29-9A19-3E74422C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FEB3-1A29-47A9-B958-C6B2688D85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821-7A01-4D9C-8CA4-2104C605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F621-A7A7-4A59-88D4-49C5742A81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3FAC-4AE6-4F63-A52D-7086C42F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A54F-53DC-4D5E-81A9-1E1D13E836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4EE-FDDE-47E3-B9BB-0C4A8184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FEB5-8D25-4A6E-9B21-109C4B1AB7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C9D7-9BB8-4FE3-88D1-5166B325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328-9B7B-4483-8F5D-0016240722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D86F-89A3-4E1A-BE34-55D0FC76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4B81-DAC0-45F5-95E6-46669DA8A9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DF6-964F-4290-B25D-D8F4898C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201-10CE-4639-8D3D-0448FF4F8D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7E8-F69E-4905-B1DE-104A686E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52DD-266A-4BEA-BC2E-65C63BCEFA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8CD2-9736-42BC-8499-59428E19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7BE-B40E-44E7-82AD-C3E550A96D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AFDB-6ECE-49E4-B137-51807BEA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9186-BD99-425C-AED0-CC9B4D1A99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984-AD11-4BE6-8298-1FD89803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E32-778A-43AE-8CCB-814FB22DD5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00C-6CC4-4B95-A38A-06654E94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F18-5EC4-44EC-AAA7-9000291074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F48-06DF-4DF1-90AF-BCBFAFFE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A45-3FD0-46FF-9A63-FE5A5F60D0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558-CD98-47A7-BA3C-13D651DF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86B-F111-47EC-8C59-6029AC106F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8126-DAA8-41FF-9BC1-8027F32F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58FA-7FA3-42FA-9E18-49AA90E933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C20-AD21-47D8-950D-17111C92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607-69EC-43C3-A805-F5E26FE8A9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7E9-D33F-4B03-894E-B24E59A9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8774-EDFC-4B90-9AE4-08E300F0B7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80E-3A97-46FE-B9EA-4438CC93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264C-2D70-4C17-BF4E-F07FD8002D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5E8-411A-48DB-ABB1-D4E3F02A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EE1-D335-4CCD-8AA2-88B75242BD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37F-DDED-462C-86BA-0374DA65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34C-3DE9-46E4-861C-D553D8C573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C47-7C0A-4B1C-9098-18351069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AC41-2FF5-41AA-BD42-6CFE5ED1D5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56B-DB29-420D-9362-28B72D62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0AC-F6A2-4144-991E-9A21698EF7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5854-E309-45AB-A23C-985CA173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DA2D-BE5F-4BD6-A885-9B53509102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EE51-EB00-47C4-A8AD-4155701DD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4D5-B914-49E6-B6CB-6CBF615B97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D63-BCE0-429A-843E-D432A471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456-06B2-4510-9869-63CD0125FE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67F-0F87-4C1B-A06C-75C8A26A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4A47-75AF-41D8-A363-B19BAAC868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662-BB73-49E1-ADD9-A4224BCD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156C-A801-410E-8336-42C53B3849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6DFD-999E-49A9-B765-FC9D7698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C51-E871-4A78-9167-7228BE2376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700-D1AE-44E0-B2FE-60AC5290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9B02-5F77-447B-B5E7-6E2459D635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B9C-C1F3-49CD-9DCF-923431F9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4F3-1901-4808-9497-D33BD19838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023-57AB-450A-8200-0C867972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5BE-D990-4F7C-91B2-37AA59F3B1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228-7A10-4FEA-91E3-6CA9E346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02E-29F0-4BE9-BBF4-14FAA4F276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3448-A025-4DA8-9AF3-2FCA89327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F39-A9A7-49A7-B1C1-44FBDD4773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150F-2FAB-417F-8096-B614AE25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9508-E454-4D00-A642-F530809251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5EB-8463-48B2-AE59-2245E2AB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848-BB36-4BDF-BCFF-E5413C5763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B0F9-D1AE-4E81-A51B-88B6D767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918C-EAFC-4C7F-B55B-528AF52DA7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EDE6-112B-4E09-9C50-694FC8A0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4AA-136A-42CB-ACE2-BA1E0ED1C5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07AA-1F5E-436E-8D1B-615A4593A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E87CC-BD20-4AEE-8CF3-581C2AF2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D889A-E090-4F7F-80D8-6A2ECE0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7654A-2291-4C50-811F-FB927DD3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ED8F-1549-4B90-93CC-304B70B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7A33-E919-4A20-972D-61D43D32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570FF-E321-48D5-A194-34BD61A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ED40E-F5B7-4A97-9C29-7B98D41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326D1-2813-4617-9CA5-182D564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CEA2-443D-4411-A265-605121C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93F8B-F9F3-4CD4-8D48-5FF6839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2F1CD-C976-4493-B353-ED50EEEC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B7CB-6AF4-447E-A08E-7532499A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170A9-979B-46F7-A937-66FB16E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F4E67-C04A-4EBF-9F36-F9DC609D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AB940-F048-4759-B6A5-C479F31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01F2-09F6-4B43-8B57-63D5AAE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1031A-02A6-4076-80ED-C649D07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DBA86-85EF-475D-AC15-07FD6F71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7BC3F-7512-4ABB-9C63-2A16F28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FC8AD-507D-4688-ADFA-2379547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EEB90-CC61-4A80-A5C0-F3BDFFF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2ACDE-5503-41ED-966A-F288A0F9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A6A6B-4C39-40B9-BDFD-014761C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50655-248C-4A56-92BE-7AD2842E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F9E7E-65A3-44AF-89E8-95842B72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A3C04-3A6A-4334-8590-FFD78C08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E79D3-E439-4FAD-A469-DC3E313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7FF27-B51B-428A-A176-DA47B3B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5B06D-ED3C-419A-BDDC-0D7B6D5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84257-2C01-45B1-A726-FE0058B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4E74C-92E9-4008-AF0C-30BADC2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0D650-A042-4417-8D30-4711C09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CF66F-DA4C-4F36-94DB-E5B62BF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E2697-E5D7-4EF4-A85E-472476F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08C66-823D-4698-9733-029978CD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5B63C-46FD-4D80-9D2C-25C8888E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3E4F8-D691-4376-ADB8-DBDA59B2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C1AF2-B268-4100-BC10-B63F2B8B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C0C14-ABD2-470A-A2D0-91990D5C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537CC-C214-4EA5-A658-2A98CA2E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ACED9-E13B-4B8B-8956-EB6FD15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D86E7-B3E4-463B-B2C9-B5AB100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11937-87D2-4920-A2A0-9AF2EB3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A7E03-7DEE-4A4F-89E8-2EE41B9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B2961-DB31-4687-AF4C-899C918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0AF83-49AA-4131-BB7C-044AA1B5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D3A94-7EBF-48BC-A891-89E23218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7797D-13F7-457B-8E5F-2255E01A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0DB-BEEB-48C1-B78F-1F2B4198C196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CC1-A2D7-44EC-8DE8-1355520A03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AF54-3E6E-4B1B-9283-16C0632226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155-5138-402A-87A2-5C8A4A4F86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9B5-7780-4F0E-80E3-690BBC83D3E0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XML   Sch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1413000"/>
            <a:ext cx="7308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281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una delle attività del working group su XML. Ha prodotto 7 generazioni di working draft, per poi divenire recommendation nel maggio del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viso in tre par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0: Primer (un’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1: Structures (struttura del documento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2: Datatypes (modello dei dati e meccanismi di estensione dei ti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to di un XML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documento di XML Schema è racchiuso in un elemento &lt;schema&gt;, e può contenere, in varia forma ed ordine, i seguenti ele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nclud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inserire, in varia forma, altri frammenti di schema da altr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simple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tipi denominati usabili in seg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elemen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elementi ed attrib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ocu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serie di attributi e gruppi di content model complessi e denomi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notazioni non XML all’interno di un documen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n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sprimere commenti per esseri umani o per applicazioni diverse dal parser di XML Sch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ipi in 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79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usa i tipi per esprimere vincoli sul contenuto di elementi ed attribu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semplice è un tipo di dati che non può contenere markup e non può avere attributi. In pratica è una sequenza di caratteri. E' una specificazione (e restrizione) di CDATA o #PC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complesso è un tipo di dati che può contenere markup e avere attributi. E' l'equivalente di un tipo strutturato o m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predefinisce un grande numero di tipi semplici: string, decimal, float, boolean, uriReference, date, time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tipo semplice è caratterizzato da alcune proprietà, det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ce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ne descrivono vincoli e formati (permessi ed obbligh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a possibilità di derivare nuovi tipi, sia per restrizione che per estensione di permessi ed obbligh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sempl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e gli attributi sono istanze di un tipo. I tipi semplici sono tipi stringa non ulteriormente strutturati, e possono essere usati per entramb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Schema non fa nessuna distinzione tra attributi ed elementi con content model te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price" type="xsd:decima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de" type="xsd: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definiti molti tipi semplici, che possono essere usati liberamente nelle definizioni. Il nome di un tipo semplice predefinito appartiene allo stesso namespace di XML Sch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derivare i tipi semplici per restrizione, unione o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lista parziale di tipi semp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caratt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i valori  'true ' e 'false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con segno: +65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(con segno e punto): '-34.15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 reale in notazione scientifica: '12.78E-12 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stringa per una durata temporale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PnYnMnDTnHnMn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Ad esempio  'P1Y2M3DT10H30M ' è la durata di 1 anno, 2 mesi, 3 giorni, 10 ore, e 30 mi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data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CYY-MM-D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'2001-04-25 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 valore di orario nel formato hh:mm:ss con una appendice opzionale per l'indicazione del fuso orario. Es.: '13:20:00+01:00 ' significa 1:20 PM in Middle European Time (+01: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xBinar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dati binari arbitrari in formato esadecimale: '0FB7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yU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a stringa di un URI, come "http://www.w3.org/ ". Accetta sia URI relativi che assolu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D , IDRE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senza whitespace con le stesse proprietà e vincoli di ID e IDREF nei D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zione per restri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rte da un tipo già definito e ne si restringe il set di valori leciti attraverso l'uso di fac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 type="Teditor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data" type="Tdatarecent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 Tdatarecen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a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Inclusive value="2006-01-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4376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tipo io posso precisare dei facets, delle caratteristiche indipendenti tra di loro che specificano aspetti del 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ngth, minLength, maxLength: numero richiesto, minimo e massimo di carat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Exclusive, minInclusive, maxExclusive, maxInclusive: valore massimo e minimo, inclusivo ed es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ision, scale: numero di cifre significative e di decimali signifi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tern: espressione regolare che il valore deve soddis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umeration: lista all’interno dei quali scegliere il valore (simile alla lista di valori leciti degli attributi nei DT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, duration, encoding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45900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un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9437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nsieme dei valori leciti è data dall'unione dei valori leciti di due tipi sempl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rezzo" typ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ecima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Exclusive value="0.0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grati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l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437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valori leciti una lista separata da virgole di valori del tipo semplice specific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impleType name="TListaDiNumeri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list itemType='xsd:integer'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ord" type="TListaDiNumeri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area coord="25,30,75,90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anonimi e tipi denomin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i tipi possono essere predefiniti (solo x tipi semplici), denominati (con una definizione esplicita, come nei casi precedenti) o anonimi (interni alla definizione di un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4760" y="1341360"/>
            <a:ext cx="6807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i per introdurre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azione dei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oduzione di tipi ed ele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i elementi ed at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i aspetti rilev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72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tipi comple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ANY ed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m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unque tip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con at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ono tipi complessi predefiniti (o quas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rivazione può avvenire per restrizione o estens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ANY ed EMP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5760" y="1341360"/>
            <a:ext cx="7734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nything" type="xsd:an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name="emptyTypeWithAttribut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first" 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second" type="xsd:decima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2" type="emptyTypeWithAttribut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struttura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94920"/>
            <a:ext cx="78483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si usano virgole e barre per specificare obblighi e scelte tra gli elementi di un content model compl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si usano &lt;choice&gt;, &lt;sequence&gt; e &lt;all&gt;. Questi sostituiscono anche le parente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quenza (A, B,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elta (A | B |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choi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mpless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riprende l'operatore &amp; di SGML: tutti gli elementi debbono essere presenti, ma in qualunque ordine. (A &amp; B &amp; C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ll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al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B.: ci sono restrizioni: la struttura all può solo essere l'unica struttura di un tipo complesso (non posso usarla in espressioni più compl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ggruppamento non ha bisogno di parentesi: (A, ( B | C)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no gli attributi minOccurs e max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permette non solo i valori 0, 1 e infinito, ma qualunque numero int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ito è "unbounded", e può essere usato solo per max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ault entrambi valgono 1. Inoltre, minOccurs ≤ 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optional" type="x" minOccurs="0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repeat" type="x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free" type="x"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counted" type="x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2" maxOccurs="4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532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 specificare questi attributi non solo per gli elementi, ma anche per le strutture (choice, sequence, a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esempio, (A,B,C)*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 minOccurs="0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ure, (A,(B|C)+)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choice minOccurs=”1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t model misto aggiunge semplicemente l’attributo mixed con valore “tru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lunque espressione di elementi viene rispettata, ma il PCDATA può comparire ovunque, prima o dopo questi elem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!ELEMENT para   (#PCDATA | em | strong)*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"paraContent" mixed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hoice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em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strong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ara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 possono fare cose più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review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mixed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il #PCDATA può comparire ovunque prima e dopo questi elementi, ma questi debbono essere posti esattamente in quell'ordine e in quel num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odel con attribu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872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 tipi complessi, gli attributi vengono sempre posti alla fine del content model, in una lista aperta di elementi &lt;attribute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complesso strutturato con attribu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ELEMENT Z (A,B,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ATTLIST Z y CDATA #IMPL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element name=“Z” type=“Tz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complexType name=“Tz”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ttribute name=“y” type=“xsd:string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n attribu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5640" y="1219320"/>
            <a:ext cx="7799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ipi semplici non possono avere attributi. Qualunque elemento preveda attributi è necessariamente di un tipo compl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differenzia allora tr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comples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a è la definizione di un tipo il cui contenuto è semplice ma che prevede un attrib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”Tprezz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xtension base="xsd:decima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attribute name="valuta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rice" type=”Tprezz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lmente si pensava che XML servisse solo per 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è più semplice di SGML, è più generale ed aperto di HTML, è lo strumento ideale per esprimere documenti di testo, siano essi libri, manuali o pagin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’enfasi iniziale era su internazionalizzazione, strutturazione, facilità di conversione, ecc. Raccoglieva in pieno l’eredità di SGML. Lo sviluppo di XML era difatti condotto da membri della comunità SG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re 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due modi per derivare tipi comples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est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i limitano ulteriormente i vincoli espressi: modificando minOccurs e maxOccurs, fissando dei valori per certi elementi o attributi, o imponendo ad un elemento un sottotipo del tipo origin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est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ggiungendo al content model nuovi elementi o nuovi attributi. Attenzione: i nuovi elementi sono posti necessariamente alla fine degli al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restrizion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94376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 deriva per restrizione imponendo maggiori vincoli sui vincoli già imposti dal tipo base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triction by subsum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rivazione per restrizion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questa non va be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element name="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-316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esten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8724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estrizione per estensione aggiunge elemen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a fi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ntent model prece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nuovi attributi non ci sono problemi, mentre per nuovi elementi bisogna assumere l’esistenza di una sequence tra il vecchio e il nuovo content model.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'nomecognome'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nome’ type=‘xsd:string’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minOccurs='0’ maxOccurs=’unbounded'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cognome' type=‘xsd:string’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’nomecontitolo’ 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extension base=“nomecognome”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&lt;xsd:element name='title’ minOccurs='0’ type=“xsd:string”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re elementi ed attribu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9437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gli elementi &lt;element&gt; e &lt;attribute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sono posti all’interno del tag schema sono elementi ed attribu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ssono essere root di document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menti sono usabili solo all’interno di elementi che li prevedono come ti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hanno vari attribu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me: il nome del tag o dell’attribu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loc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: il nome di un elemento o attributo definito altrov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glob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ype: il nome del tipo, se non esplicitato com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Occurs, minOccurs: il numero minimo e massimo di occor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xed, default, nillable, ecc.: specificano valori fissi, di default e determinano la possibilità di elementi nul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872480" cy="46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posta all'interno del tag &lt;schema&gt;. In questo caso l'elemento o l'attributo è definito in maniera assoluta. L'elemento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inserita all'interno di un tag &lt;complexType&gt;. In questo caso l'elemento o l'attributo esiste solo se esiste un'istanza di quel tipo, e l'elemento non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15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all'interno di un tipo complesso fare riferimento ad un elemento globale, usando l'attributo ref invece ch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chema..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librierivis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hoice maxOccurs="unbounde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libro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rivista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libro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rivista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Gruppi e gruppi di attrib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848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raccogliere gli elementi e gli attributi in grup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”A”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xsd:complexTyp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group ref=”elem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attributeGroup ref=”attrs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group name=“elemA”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Group name=”attrs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p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q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attribute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l’unico posto dove mettere note e istruzioni di compilazione sono i commenti. Però i commenti sono a perdere: possono essere mangiati in qualunque fase dell’elabor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, invece, esiste un posto specifico dove mettere note ed istruzioni, l’elemento &lt;annotation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&lt;annotation&gt; può contenere elementi &lt;documentation&gt; (pensati per essere letti da esseri umani) oppure elementi &lt;appInfo&gt;, pensati per essere digeriti da applicazioni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’pippo'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documentation&gt;elemento pippo&lt;/documen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 Il resto della definizi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a dichiarazione di targetNamespace definisce il namespace del documento da valid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Gli attributi elementFormDefault e attributeFormDefault permettono di controllare se l’uso del prefisso è necessario per i tipi non globali.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chema xmlns="http://www.w3.org/2000/08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xmlns:po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argetNamespace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ttributeFormDefault="un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A”   type="po:prov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C”   type="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 name=”po:prov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“B” type=“string”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ref=“C”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sce poi l’idea che XML possa servire per qualcosa di più: XML è (anche) un linguaggio di markup per trasferire dati: un meccanismo per convertire dati dal formato interno dell’applicazione ad un formato di trasporto, facile da convertire in altri formati inter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ensato per la visione umana, ma per essere prodotto ed usato da program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è un’interfaccia (Adam Bosworth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utore e lettore, attraverso XSL e XLink, per portare significato tra creatore ed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pplicazione ed applicazione, attraverso XML Schema, per esprimere contratti sui formati, e verificarne il rispet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9608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o che i namespace permettono di fare è di specificare regole di validazione solo su alcuni e non tutti i namespace del documento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"htmlEl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ny namespace="http://www.w3.org/1999/x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nOccurs="1" maxOccurs="unbounde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ll’attributo namespace dell’elemento &lt;any&gt; posso specificare o un namespace vero e proprio, o i valo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an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ben for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loc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non sia qualificato (cioè privo di dichiarazione di name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other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tranne il target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371240"/>
            <a:ext cx="7799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anche questo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ook xmlns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7872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invece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attributi elementFormDefault e attributeFormDefault controllano se gli elementi e gli attributi locali siano per default qualificati o non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fault sono NON qualificati, il che è ragionevole per gli attributi, e un po' una sorpresa per gli elementi. Si noti ad esempio che in RDF sia gli elementi che gli attributi debbono essere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la o la seconda versione del documento valido, dobbiamo porre elementFormDefault a qualificato, altrimenti non funziona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920" y="1066680"/>
            <a:ext cx="78724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clusioni e importazion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6920" y="1143000"/>
            <a:ext cx="77281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esistono meccanismi per dividere lo schema in più file, o per importare definizioni appartenenti ad altri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: Le nuove definizioni appartengono allo stesso namespace, ed è come se venissero inserite direttamente nel docu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efine: come include, le definizioni appartengono allo stesso namespace, ma possono venire ridefiniti tipi, elementi, gruppi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:  le nuove definizioni appartengono ad un altro namespace, ed è l'unico modo per fare schemi che riguardino namespace multip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rgetNamespace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:cd="http://www.w2.or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 namespace="http://www.w2.org"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schemaLocation="http://www.w2.org/s1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amespace multip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re più namespace nello stesso documento significa avere più targetName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targetNamespace (volutamente) è un attributo di xsd:schema, quindi è possibile averne al massimo 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estire più namespace è necessario separare la gestione dei namespace in più xsd:schema, ciascuno con il proprio targetNamespace, e farne un import in un un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schemi coinvolti debbono però avere le dichiarazioni di namespace appropri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amespace multipl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chema 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due="http://www.sito.org/du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tre="http://www.sito.org/t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targetNamespace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elementFormDefault="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due" 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du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tre"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tr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a" type="myType"/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complexType name="my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due:b" type="du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tre:c" type="tr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complexType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icità e chi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8724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è possibile richiedere che certi valori siano unici, o che certi valori siano chiavi di riferimenti, analoghi alla coppia ID/IDREF in XML “classico”. Tuttavia, è possibile specificare pattern molto complessi come elementi chi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c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unique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author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titl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uniqu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ità refer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code"/&gt;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ref name="list" refer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list/objects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faccenda del trasferimento dei dati si semplifica: i documenti strutturati e gerarchici sono un formato ragionevole di sintassi praticamente per qualunque cosa: documenti di testo, record di database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W3C Note di Agosto 1999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w3.org/TR/schema-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Many data-oriented applications are being defined which build their own data structures on top of an XML document layer, effectively using XML documents as a transfer mechanism for structured data;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ferirsi ad uno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4376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v:pippo xmlns:fv =“http://www.fabio.org/Pippo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mlns:xsi=“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http://www.w3.org/2001/XMLSchema-in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xsi:schemaLocation=“http://www.fabio.org/pippo.xsd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v:pipp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ttributo schemaLocation dentro all’istanza del documento XML diamo un suggerimento sulla posizione dello schema al validatore (ma la stessa informazione può essere data off-line, ad esempio perché predefinita, o in un header della connessione H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e buona for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294920"/>
            <a:ext cx="758340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uona forma di un documento XML è una proprietà puramente sin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idazione, viceversa, è la verifica di un impegno pre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formato, ad un livello già seman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i impegno a scrivere dei documenti che siano formati da capitoli, ciascuno con un titolo e vari paragrafi, e ogni immagine con la sua didascal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primere documenti di testo, i DTD probabilmente bastano, ma per esprimere blocchi di dati strutturati, è necessario un meccanismo di verifica più raffin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è stato pensato per fornire quel supporto di validazione che i DTD permettono solo parzialmente, in particolare sul contenuto degli elementi e degli attributi del documenti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6360" y="1752120"/>
            <a:ext cx="7439040" cy="39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ul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offrono le entità parametriche per tutto: content model ripetuti, frammenti di DTD riusabili, modularizzazione delle specific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off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meccanismo di inclusioni di file(differenziato e sofistic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tipi gerarchico e comp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specifica di frammenti riutilizzabili di content model e attribu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dei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ignorano i namespace. E' molto complesso far convivere DTD e qualifica degli elem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permette esplicitamente di qualificare gli elementi e gli attributi, e fornisce molte funzionalità di estensione o limitazione dei vincoli sugli elementi a seconda del loro name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ncoli su elementi e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TD permettono un ragionevole controllo degli elementi strutturati, ma poca flessibilità sui content model m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non permettono vincoli sugli elementi di testo (#PCDATA e CDATA) a parte le liste di valori ne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amplia il set di vincoli per gli elementi strutturati, ed è molto più flessibile negli elementi con CM mi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permette di definire tipi semplici, ovvero di esprimere vincoli su dati di tipo stringa, in maniera completa e sofisti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azione espl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gare documentazione per esseri umani in un DTD significa inserire commenti XML dentro al DTD. Questo è limitante e fragile (i parser eliminano  i commenti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permette di inserire annotazioni in maniera esplicita e controllata, in maniera che sopravviva al 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piè di pagin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Next: XML Schema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9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TD usano una sintassi propria e particolare, che richiede parser appositi e strumenti di generazione e verifica apposi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usa XML come sintassi. Tutti gli strumenti che si usano per XML sono immediatamente utili: parser, visualizzatori, verificatori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tro, XML Schema è estremamente più verboso, tre o quattro volte più lungo del corrispondente DTD, e molto spesso meno chiaro da legg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state molte obiezioni su questo specifico aspetto, ma TBL ha specificamente insistito per ricondurre tutto ad XML (altrimenti, che meta-sintassi sarebb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05Z</dcterms:modified>
  <cp:revision>103</cp:revision>
  <dc:subject/>
  <dc:title>Diapositiva 1</dc:title>
</cp:coreProperties>
</file>